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B80-9448-403D-8D31-F1CBB1DA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5EF-B283-48C0-AB04-AEC870C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804-1FBA-4D72-A0B3-6869AFF6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973-6745-433B-A21C-96C530D6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801-9359-418E-81A3-BDFE31AE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E94-4B8E-4AD3-9830-712F4F5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DC3-DA6E-4233-BE71-C5FFEEEE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BC6-11BD-4B8B-ACAE-D51D152F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2E0-5E47-4C44-B508-822880F6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100-D331-4085-93D3-9752BF6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E2C-0179-4FB6-9969-90BF11D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ECD-6CE0-42B6-937A-66A012D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FD34-FAD4-49F4-B39B-166BC836F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Outlines%20-%20April/Outline%201-3%20REV%20March%2017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solidFill>
            <a:srgbClr val="558ed5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iculum Mapping Plan/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/Dates for Professional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Essential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pt/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idence/Products Pro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Assig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Heidi Jacobs\Local Settings\Temporary Internet Files\Content.IE5\O6OIR4BO\MCj04396130000[1].png"/>
          <p:cNvPicPr/>
          <p:nvPr/>
        </p:nvPicPr>
        <p:blipFill>
          <a:blip r:embed="rId1"/>
          <a:stretch/>
        </p:blipFill>
        <p:spPr>
          <a:xfrm>
            <a:off x="5943600" y="2819520"/>
            <a:ext cx="259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53000"/>
            <a:ext cx="89154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ementation (PD) M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600200"/>
          <a:ext cx="8458200" cy="5068800"/>
        </p:xfrm>
        <a:graphic>
          <a:graphicData uri="http://schemas.openxmlformats.org/drawingml/2006/table">
            <a:tbl>
              <a:tblPr/>
              <a:tblGrid>
                <a:gridCol w="914400"/>
                <a:gridCol w="3810240"/>
                <a:gridCol w="37335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sential Ques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id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115200"/>
            <a:ext cx="89154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ementation (PD) M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762120"/>
          <a:ext cx="8458200" cy="6280200"/>
        </p:xfrm>
        <a:graphic>
          <a:graphicData uri="http://schemas.openxmlformats.org/drawingml/2006/table">
            <a:tbl>
              <a:tblPr/>
              <a:tblGrid>
                <a:gridCol w="1067040"/>
                <a:gridCol w="3657600"/>
                <a:gridCol w="37335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3:30 p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-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:00-11:3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sential Ques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Curriculum Mapp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it serve as a HUB for school improv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you upgrade your assessments to address 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ntury skill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you replace dated assessments types with more contemporary form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apping is a two-sided coin: diagnosis and prescrip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finition of map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mponents and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nn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ossible products that could be produced in the proc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urriculum design requires deliberate choices reflecting the time in which we liv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Sample Contemporary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igital 2.0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Alignment to skills in maps and level of understa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components of a ma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Review different maps and determine the specific elements that provide more inform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termine connections with other initia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reasons for mapp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View 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ntury classroom projects and brainstorm possible applications for your ma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skills in maps that could best be demonstrated using 2.0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npack assessments to crosscheck alignment with skills, content, and level of understa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id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distinguishing between old and new ter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connecting initia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reasons for mapp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products that can be produced in the proc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d classroom assessments incorporating appropriate digital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instormed assessment ideas with a 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 projects using 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ntury classro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a unit you wish to map and  identify the most important concept you want students to understa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assessments in two more units before our next session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858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/PD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94920"/>
            <a:ext cx="7848720" cy="5257800"/>
          </a:xfrm>
          <a:prstGeom prst="rect">
            <a:avLst/>
          </a:prstGeom>
          <a:solidFill>
            <a:srgbClr val="558ed5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larity in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pen Al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learly defined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grade to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HUB for connecting all school improvement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ehensive plan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ful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ommunication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Ann\Desktop\My Pictures\Alice\100_0670.JPG"/>
          <p:cNvPicPr/>
          <p:nvPr/>
        </p:nvPicPr>
        <p:blipFill>
          <a:blip r:embed="rId2"/>
          <a:stretch/>
        </p:blipFill>
        <p:spPr>
          <a:xfrm>
            <a:off x="6324480" y="4419720"/>
            <a:ext cx="2206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39:00Z</dcterms:created>
  <dc:creator>Ann</dc:creator>
  <dc:description/>
  <dc:language>en-US</dc:language>
  <cp:lastModifiedBy>Ann</cp:lastModifiedBy>
  <dcterms:modified xsi:type="dcterms:W3CDTF">2010-01-05T21:24:07Z</dcterms:modified>
  <cp:revision>4</cp:revision>
  <dc:subject/>
  <dc:title>Slide 1</dc:title>
</cp:coreProperties>
</file>